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257-97BE-421F-BB15-DC462628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582-43E8-4DD7-A492-3120DCA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BD4-2BB6-409D-AF2E-C584E8C3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820-E957-4F5B-8747-E2C4989F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BAB-1822-418C-99A5-04D2850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5DF-E249-4E34-96BC-B0DBB65C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25F-9A71-4BFB-8A21-7B401EA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41A-BC05-4EA2-9DD2-6B093EA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549-CC19-4137-92CA-981DD3F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C7A-B211-4607-B75D-CDED5BC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F5C-A2F5-4815-BB99-03CC6716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399-A3EE-40E8-B644-9EA967C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293-F016-42E0-AB99-FBE74601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 and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ancisco Viram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a lot of different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izes; some are big, some are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gate%2002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 the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a-ecuador-volcano01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lathead-river-rocks-denise--hoff"/>
          <p:cNvPicPr/>
          <p:nvPr/>
        </p:nvPicPr>
        <p:blipFill>
          <a:blip r:embed="rId2"/>
          <a:stretch/>
        </p:blipFill>
        <p:spPr>
          <a:xfrm>
            <a:off x="5214960" y="3938760"/>
            <a:ext cx="2903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are made of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from one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of two or more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ckGalaxy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ock-photo-semi-precious-gemstones-blue-lace-agate-aquamarine-apatite-fushite-beryl-amazonite-angelite-4046458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imals-and-plants31701s"/>
          <p:cNvPicPr/>
          <p:nvPr/>
        </p:nvPicPr>
        <p:blipFill>
          <a:blip r:embed="rId1"/>
          <a:stretch/>
        </p:blipFill>
        <p:spPr>
          <a:xfrm>
            <a:off x="1828800" y="304920"/>
            <a:ext cx="55245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90040" y="46483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ake energy from the sun and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ke their own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S7FOyzw-HP0CPeMgSsfKG9oUR0BlQuhRI_W9FRHO0zEHdHQMQvPQ"/>
          <p:cNvPicPr/>
          <p:nvPr/>
        </p:nvPicPr>
        <p:blipFill>
          <a:blip r:embed="rId1"/>
          <a:stretch/>
        </p:blipFill>
        <p:spPr>
          <a:xfrm>
            <a:off x="5153040" y="19350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ss"/>
          <p:cNvPicPr/>
          <p:nvPr/>
        </p:nvPicPr>
        <p:blipFill>
          <a:blip r:embed="rId2"/>
          <a:stretch/>
        </p:blipFill>
        <p:spPr>
          <a:xfrm>
            <a:off x="4889520" y="3938760"/>
            <a:ext cx="3554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, horses, turtles, and bird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rse_578_600x450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ater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ns, T-Rex, cats, and dog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on-Wallpapers-For-Desktop-3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ers eat dead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s are decomp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50px-Regenwurm1"/>
          <p:cNvPicPr/>
          <p:nvPr/>
        </p:nvPicPr>
        <p:blipFill>
          <a:blip r:embed="rId1"/>
          <a:stretch/>
        </p:blipFill>
        <p:spPr>
          <a:xfrm>
            <a:off x="5105520" y="1676520"/>
            <a:ext cx="3174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55:29Z</dcterms:created>
  <dc:creator>aedwards</dc:creator>
  <dc:description/>
  <dc:language>en-US</dc:language>
  <cp:lastModifiedBy>Jeanette</cp:lastModifiedBy>
  <dcterms:modified xsi:type="dcterms:W3CDTF">2012-12-13T22:38:30Z</dcterms:modified>
  <cp:revision>2</cp:revision>
  <dc:subject/>
  <dc:title>Rocks and Minerals</dc:title>
</cp:coreProperties>
</file>